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2D3-EC2F-4022-8CFB-FA8267A8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8C5-5CD0-4D2C-86FE-ECD1EB1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741-E546-4BD4-B00D-CB2F761D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13A-BBD2-4143-B14F-82777973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4B5-CFA3-464F-A4EC-CFE27B6E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908-548A-48F1-9049-5E97AE2C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962-EFBD-4D81-BC92-201AC383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54C-C85E-4FBE-845E-5E208A16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0BE-F93E-4EBF-9515-6A27CF2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10A-243A-44AD-8A99-29F0095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87A-CB56-412D-97AD-9BB87DB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2FC-E95F-4798-AC54-C6411A1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BAB-0D24-4B23-A0C0-D6C0B60D7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ASURING THE VARIABL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935440"/>
            <a:ext cx="69343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890800"/>
            <a:ext cx="7086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553080" cy="109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094200"/>
            <a:ext cx="66294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162920" cy="138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795760"/>
            <a:ext cx="66294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3320" y="1951200"/>
            <a:ext cx="478800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09Z</dcterms:modified>
  <cp:revision>95</cp:revision>
  <dc:subject/>
  <dc:title>The Art in the State of the Art</dc:title>
</cp:coreProperties>
</file>